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C43F-CD4A-404C-89D2-9EC814219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7ABC-20D3-43AC-8F8F-A9FED3E1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508C-A8E8-4C99-B349-F8976437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EA1F-BF01-47B1-8CD1-4D6B4763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38C7-659A-4C69-BFF1-7935FB54B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44D3-9070-45B1-A3AC-DEF82C17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0764-42BF-4AC9-8808-19EBE860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237E-15FF-4C4F-A3FF-C642E3A4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E599-5F01-417E-8CC7-0E1880BA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3BB5-0BBB-47E0-A91B-D90471F0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F5A7-E237-48D5-A0C3-91BD5AF4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1483-2C79-4605-8B2A-3F27B81E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7FE9-22B8-43D5-AED5-51ABACBA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131B-FDD1-49C2-ABC0-70413A4A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F1E0-A631-433F-93E7-609B9A8F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BD03-0C5D-4127-B318-5CCE6687A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7B83-0B91-4AAF-9574-0F27D3E0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BE3D8-9860-4925-A9A9-385EE2FF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66FF3-45DC-48C3-A905-9549F45B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B381A-E036-4A43-AF5C-ECA4F02C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08B2B-308D-4E2E-8D7E-6542D0BD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EB55D-5215-4B82-B584-B2425F59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CDF4-CE4D-4B0C-82BF-2E700846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E8366-DC0E-4749-BC86-3B36A2D1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59FE7-DF75-4643-8456-CB3B44D1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712BE-E51C-460B-A7CC-C877798B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72F7F-C5A1-41C5-BCE9-B4F781F1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6BD05-EEC3-478A-9D8F-24C3637A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B49A6-066B-4EC9-9EB8-DF2767EB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40BD5-E27C-42B8-8829-F2331D507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9A325-7B7B-423B-8E73-93CAB311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A7FD2-CA43-46CF-B659-D471308B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66084-228B-4D8A-A308-BFA2F0C0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9D49-8A68-4682-A6FD-DFD185E9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989C8-0D9F-4199-8FF0-CFDB40A1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C7986-16AC-4B68-8DE5-972B972C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84830-2D91-4B0C-B671-B293ED7E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C32B4-450C-4FDE-B545-D0F3CBA8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48B34-5AEF-4720-81E0-680DB851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7033D-5A7B-45F6-BA73-AFACFB00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3766B-F912-4153-8587-59157BA8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072F4-B9DB-4D3F-97E7-FB1C74738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2CAB8-20C7-461B-8E0C-0C5815D69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BB58F-B71E-49EB-B26F-49F30526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D79B-36EE-4218-B2FA-63C7881C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71633-F6F7-4E0A-A481-3B7969B0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7EE22-EF8B-4141-B251-1907708D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C7889-FDD4-43C8-B52C-72B3592C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546DC-13C2-43DD-BF30-4EAC0B33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9F550-24C4-4BC2-A4F0-DF37DE60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37AF8-943E-481A-B98B-277E809B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150E8-F2A9-4170-8871-40832ECA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B6EFD-41F8-4BFD-B6FF-233455E2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16011-E54F-4A30-86EC-BC34BFF8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C60F8-8F12-42A5-A401-E6D87FCC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3609-315F-4A58-8CFE-B14E51AB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ED1A0-F225-4283-9E7A-0E2E40CCF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EC1BD-95B0-47FA-8A50-97C8975FD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77918-A253-4390-B20B-0A45D469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7B4AB-8CA8-4119-94EB-AF890316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5F829-2809-4716-9BE7-62FCDF5A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2D6D5-628F-446D-BC00-D930AE02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320D2-385D-4A42-9F07-98C54A36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94027-E532-4F6C-B29E-FCB417D1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F9682-0FB9-47B6-87A2-CD3DA4D8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F216A-2501-4ABF-8E98-7B3335A0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B7F3-9D53-4B5F-ABC7-D344AC38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27CA5-C642-4677-8572-3642C30E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384F7-1B69-44D0-96DE-C04637E2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83E51-922A-487A-B809-0969DEB9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2B6DE-2FB8-4ABA-8DD6-CFB51145B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797E5-F9C1-4BBA-B149-0FAC10A6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C4E55-FE5E-4499-B522-A495DB99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93B53-1805-4346-8447-FEA92E71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042D7-E2A8-4C51-A4C8-A627F3A8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5F35C-48D1-4EA7-9F70-31430604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BF94A-2FC2-48E5-A520-E9593876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2440-A11A-4E95-945F-58187DD2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C856D-D036-4ABE-8D80-7BC78A46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F0328-DB1B-42F6-AF74-C8077555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AB98A-4187-48E0-BEDD-F1AE031A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0F4B0-372A-4FFF-B6D4-C1616869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DF83C-EE4A-41DB-B301-62926EDF4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12FB-C302-404B-BBA8-12AA022A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7DAC-2079-4EFE-A504-DFB2CCA6D048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C79F-6322-4F30-95D4-623DF75C2242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D569-A440-40BE-AD0C-A3AFA3E7A375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7C58-4FAF-459F-A7E5-24A4130935BA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3CED-1132-4278-A065-DE10F5D13E66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989E-6402-4CCE-9137-37103E07F343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52ED-9B32-4367-8F79-59E8DEFE4FD2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211560" y="3068640"/>
            <a:ext cx="2944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73e87"/>
                </a:solidFill>
                <a:latin typeface="宋体"/>
              </a:rPr>
              <a:t>课题完成情况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andara"/>
                <a:ea typeface="幼圆"/>
              </a:rPr>
              <a:t>大学生创新创业训练计划项目结题答辩</a:t>
            </a:r>
            <a:r>
              <a:rPr b="1" lang="zh-CN" sz="3200" spc="-1" strike="noStrike">
                <a:solidFill>
                  <a:srgbClr val="3333ff"/>
                </a:solidFill>
                <a:latin typeface="Candara"/>
                <a:ea typeface="幼圆"/>
              </a:rPr>
              <a:t>PPT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68360" y="4006800"/>
          <a:ext cx="8163000" cy="1920960"/>
        </p:xfrm>
        <a:graphic>
          <a:graphicData uri="http://schemas.openxmlformats.org/drawingml/2006/table">
            <a:tbl>
              <a:tblPr/>
              <a:tblGrid>
                <a:gridCol w="1467000"/>
                <a:gridCol w="2225520"/>
                <a:gridCol w="2724120"/>
                <a:gridCol w="1746360"/>
              </a:tblGrid>
              <a:tr h="111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73e87"/>
                          </a:solidFill>
                          <a:latin typeface="宋体"/>
                          <a:ea typeface="华文楷体"/>
                        </a:rPr>
                        <a:t>项目任务书目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73e87"/>
                          </a:solidFill>
                          <a:latin typeface="宋体"/>
                          <a:ea typeface="华文楷体"/>
                        </a:rPr>
                        <a:t>取得的成果、结论、创新点及价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73e87"/>
                          </a:solidFill>
                          <a:latin typeface="宋体"/>
                          <a:ea typeface="华文楷体"/>
                        </a:rPr>
                        <a:t>课题任务完成情况、存在的问题及自我评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73e87"/>
                          </a:solidFill>
                          <a:latin typeface="宋体"/>
                          <a:ea typeface="华文楷体"/>
                        </a:rPr>
                        <a:t>经费开支情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</a:tbl>
          </a:graphicData>
        </a:graphic>
      </p:graphicFrame>
      <p:sp>
        <p:nvSpPr>
          <p:cNvPr id="338" name=""/>
          <p:cNvSpPr/>
          <p:nvPr/>
        </p:nvSpPr>
        <p:spPr>
          <a:xfrm>
            <a:off x="324000" y="1890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附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00:56:01Z</dcterms:created>
  <dc:creator>微软系统</dc:creator>
  <dc:description/>
  <dc:language>en-US</dc:language>
  <cp:lastModifiedBy>雨林木风</cp:lastModifiedBy>
  <dcterms:modified xsi:type="dcterms:W3CDTF">2015-04-27T09:34:20Z</dcterms:modified>
  <cp:revision>15</cp:revision>
  <dc:subject/>
  <dc:title>课题结题总结报告写作要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